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5E62-0CC8-4462-AAFA-42C4B002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371C-F43B-4FFD-B8D7-9C19497F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C52-D0B7-4FB4-BB72-27A95027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E2A-0D51-4B2B-ACE5-E84C619A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BC40-F0DF-4C3C-A1EA-B6684BE1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691C-843C-4A3B-BA17-57267924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0885-6EEC-41E4-BD14-57E0D676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F916-A179-4046-845F-74FD408B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291F-BDC8-40D0-9011-0C2792C9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E72B-CF86-48F2-89EA-2941426E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E732-EAD9-4137-9483-C48B9B95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2A2D-A025-434A-9DA7-1E085DD4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9708-1CA2-4216-AAB8-C4D284F6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3B7A-E377-4E57-89B5-A00FC893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CAF4-F367-4012-86B2-3F819676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D317-5CDE-4201-83A6-BF6C55F7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7657-8A9F-4641-8E85-BD361845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3A8A-2058-42DE-8B3C-C419A8D7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C1F2-79FB-430E-B17F-F2C4AED3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08FD-FB2C-489F-95CD-4BCC9FD8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679-D97F-42C6-92A9-0FA8AA7A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596-32ED-4A0C-9045-501C5E77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1A5-7726-48C5-8453-84091EFA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408-A2C4-4126-A954-21478B7D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aadbf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4" name="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9" name="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2600" y="0"/>
            <a:ext cx="9156600" cy="1600200"/>
          </a:xfrm>
          <a:custGeom>
            <a:avLst/>
            <a:gdLst/>
            <a:ahLst/>
            <a:rect l="l" t="t" r="r" b="b"/>
            <a:pathLst>
              <a:path w="5768" h="1008">
                <a:moveTo>
                  <a:pt x="0" y="0"/>
                </a:moveTo>
                <a:lnTo>
                  <a:pt x="0" y="688"/>
                </a:lnTo>
                <a:cubicBezTo>
                  <a:pt x="72" y="682"/>
                  <a:pt x="776" y="535"/>
                  <a:pt x="2008" y="492"/>
                </a:cubicBezTo>
                <a:cubicBezTo>
                  <a:pt x="3240" y="449"/>
                  <a:pt x="4792" y="608"/>
                  <a:pt x="5768" y="1008"/>
                </a:cubicBezTo>
                <a:lnTo>
                  <a:pt x="576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4081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2600" y="-12600"/>
            <a:ext cx="9156600" cy="1353960"/>
          </a:xfrm>
          <a:custGeom>
            <a:avLst/>
            <a:gdLst/>
            <a:ahLst/>
            <a:rect l="l" t="t" r="r" b="b"/>
            <a:pathLst>
              <a:path w="5768" h="848">
                <a:moveTo>
                  <a:pt x="0" y="0"/>
                </a:moveTo>
                <a:lnTo>
                  <a:pt x="0" y="767"/>
                </a:lnTo>
                <a:cubicBezTo>
                  <a:pt x="72" y="760"/>
                  <a:pt x="879" y="496"/>
                  <a:pt x="2104" y="448"/>
                </a:cubicBezTo>
                <a:cubicBezTo>
                  <a:pt x="3330" y="401"/>
                  <a:pt x="4792" y="472"/>
                  <a:pt x="5768" y="848"/>
                </a:cubicBezTo>
                <a:lnTo>
                  <a:pt x="5760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0040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9b1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166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166e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166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40E8-0CFB-4128-9100-17FD29D65011}" type="slidenum">
              <a:rPr b="0" lang="en-US" sz="1400" spc="-1" strike="noStrike">
                <a:solidFill>
                  <a:srgbClr val="2b166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aadbf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2240" y="692280"/>
            <a:ext cx="9093600" cy="6165720"/>
            <a:chOff x="12240" y="692280"/>
            <a:chExt cx="9093600" cy="6165720"/>
          </a:xfrm>
        </p:grpSpPr>
        <p:sp>
          <p:nvSpPr>
            <p:cNvPr id="99" name=""/>
            <p:cNvSpPr/>
            <p:nvPr/>
          </p:nvSpPr>
          <p:spPr>
            <a:xfrm flipH="1">
              <a:off x="12600" y="711360"/>
              <a:ext cx="67694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2600" y="711360"/>
              <a:ext cx="67694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61800" y="711360"/>
              <a:ext cx="6420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403640" y="711360"/>
              <a:ext cx="5378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382480" y="711360"/>
              <a:ext cx="4399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368880" y="711360"/>
              <a:ext cx="34131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237200" y="711360"/>
              <a:ext cx="2544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101200" y="711360"/>
              <a:ext cx="1680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970600" y="711360"/>
              <a:ext cx="8114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204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2600" y="711360"/>
              <a:ext cx="67694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2600" y="711360"/>
              <a:ext cx="67694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2600" y="711360"/>
              <a:ext cx="67694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2600" y="711360"/>
              <a:ext cx="67694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2600" y="733320"/>
              <a:ext cx="670140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2600" y="711360"/>
              <a:ext cx="67694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2600" y="711360"/>
              <a:ext cx="67694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2600" y="711360"/>
              <a:ext cx="67694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2600" y="711360"/>
              <a:ext cx="67694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2600" y="711360"/>
              <a:ext cx="67694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2600" y="711360"/>
              <a:ext cx="67694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79160" y="71280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79160" y="692280"/>
              <a:ext cx="232668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99320" y="733320"/>
              <a:ext cx="230652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94640" y="735120"/>
              <a:ext cx="19180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93560" y="749160"/>
              <a:ext cx="12754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85640" y="735120"/>
              <a:ext cx="6375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79160" y="692280"/>
              <a:ext cx="232668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1640" y="739800"/>
              <a:ext cx="228420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79160" y="712800"/>
              <a:ext cx="232668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0360" y="747720"/>
              <a:ext cx="226512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94280" y="735120"/>
              <a:ext cx="231120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79160" y="692280"/>
              <a:ext cx="232668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2600" y="3274920"/>
              <a:ext cx="9092880" cy="1936440"/>
              <a:chOff x="12600" y="3274920"/>
              <a:chExt cx="9092880" cy="1936440"/>
            </a:xfrm>
          </p:grpSpPr>
          <p:sp>
            <p:nvSpPr>
              <p:cNvPr id="133" name=""/>
              <p:cNvSpPr/>
              <p:nvPr/>
            </p:nvSpPr>
            <p:spPr>
              <a:xfrm flipH="1">
                <a:off x="12600" y="5211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12600" y="449640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15840" y="3850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5840" y="3274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 flipH="1">
              <a:off x="12240" y="27828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12240" y="2309400"/>
              <a:ext cx="90932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2240" y="1876320"/>
              <a:ext cx="909324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3640" y="153180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12240" y="1238400"/>
              <a:ext cx="909324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2240" y="1049400"/>
              <a:ext cx="909324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2240" y="885600"/>
              <a:ext cx="909324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2600" y="8269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2240" y="7650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b166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b166e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b166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4C85-DE2F-420D-89E0-F3B93CE91F04}" type="slidenum">
              <a:rPr b="0" lang="en-US" sz="1200" spc="-1" strike="noStrike">
                <a:solidFill>
                  <a:srgbClr val="2b16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50" name=""/>
            <p:cNvSpPr/>
            <p:nvPr/>
          </p:nvSpPr>
          <p:spPr>
            <a:xfrm flipH="1">
              <a:off x="360" y="0"/>
              <a:ext cx="9142560" cy="2158920"/>
            </a:xfrm>
            <a:custGeom>
              <a:avLst/>
              <a:gdLst/>
              <a:ahLst/>
              <a:rect l="l" t="t" r="r" b="b"/>
              <a:pathLst>
                <a:path w="5768" h="1360">
                  <a:moveTo>
                    <a:pt x="0" y="0"/>
                  </a:moveTo>
                  <a:lnTo>
                    <a:pt x="0" y="616"/>
                  </a:lnTo>
                  <a:cubicBezTo>
                    <a:pt x="72" y="608"/>
                    <a:pt x="264" y="510"/>
                    <a:pt x="1496" y="460"/>
                  </a:cubicBezTo>
                  <a:cubicBezTo>
                    <a:pt x="2728" y="411"/>
                    <a:pt x="4632" y="672"/>
                    <a:pt x="5768" y="1360"/>
                  </a:cubicBezTo>
                  <a:lnTo>
                    <a:pt x="57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081"/>
                </a:gs>
                <a:gs pos="100000">
                  <a:srgbClr val="00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2240" y="0"/>
              <a:ext cx="9131400" cy="1752480"/>
            </a:xfrm>
            <a:custGeom>
              <a:avLst/>
              <a:gdLst/>
              <a:ahLst/>
              <a:rect l="l" t="t" r="r" b="b"/>
              <a:pathLst>
                <a:path w="5761" h="1104">
                  <a:moveTo>
                    <a:pt x="0" y="0"/>
                  </a:moveTo>
                  <a:lnTo>
                    <a:pt x="0" y="632"/>
                  </a:lnTo>
                  <a:cubicBezTo>
                    <a:pt x="72" y="625"/>
                    <a:pt x="401" y="504"/>
                    <a:pt x="1521" y="448"/>
                  </a:cubicBezTo>
                  <a:cubicBezTo>
                    <a:pt x="2641" y="392"/>
                    <a:pt x="4505" y="504"/>
                    <a:pt x="5761" y="1104"/>
                  </a:cubicBezTo>
                  <a:lnTo>
                    <a:pt x="576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4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4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166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b166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b166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b166e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aadbf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aadbf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2916360" y="2133720"/>
            <a:ext cx="2438280" cy="2280600"/>
            <a:chOff x="2916360" y="2133720"/>
            <a:chExt cx="2438280" cy="2280600"/>
          </a:xfrm>
        </p:grpSpPr>
        <p:sp>
          <p:nvSpPr>
            <p:cNvPr id="194" name=""/>
            <p:cNvSpPr/>
            <p:nvPr/>
          </p:nvSpPr>
          <p:spPr>
            <a:xfrm>
              <a:off x="2916360" y="2133720"/>
              <a:ext cx="2438280" cy="2280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54440" y="2920320"/>
              <a:ext cx="762120" cy="786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943600" y="4267080"/>
            <a:ext cx="2438280" cy="2285640"/>
            <a:chOff x="5943600" y="4267080"/>
            <a:chExt cx="2438280" cy="2285640"/>
          </a:xfrm>
        </p:grpSpPr>
        <p:grpSp>
          <p:nvGrpSpPr>
            <p:cNvPr id="197" name=""/>
            <p:cNvGrpSpPr/>
            <p:nvPr/>
          </p:nvGrpSpPr>
          <p:grpSpPr>
            <a:xfrm>
              <a:off x="5943600" y="4267080"/>
              <a:ext cx="2438280" cy="2285640"/>
              <a:chOff x="5943600" y="4267080"/>
              <a:chExt cx="2438280" cy="2285640"/>
            </a:xfrm>
          </p:grpSpPr>
          <p:sp>
            <p:nvSpPr>
              <p:cNvPr id="198" name=""/>
              <p:cNvSpPr/>
              <p:nvPr/>
            </p:nvSpPr>
            <p:spPr>
              <a:xfrm>
                <a:off x="5943600" y="4267080"/>
                <a:ext cx="2438280" cy="2285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129360" y="4437000"/>
                <a:ext cx="2095200" cy="1953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311880" y="4606920"/>
                <a:ext cx="1710720" cy="1621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162560" y="4267080"/>
              <a:ext cx="0" cy="228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3600" y="5410080"/>
              <a:ext cx="243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33960" y="5165280"/>
              <a:ext cx="456840" cy="489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04" name=""/>
          <p:cNvSpPr txBox="1"/>
          <p:nvPr/>
        </p:nvSpPr>
        <p:spPr>
          <a:xfrm>
            <a:off x="2916360" y="2133720"/>
            <a:ext cx="2438280" cy="23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63096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ticheta produsului alimentar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2438280" y="5410080"/>
            <a:ext cx="1905120" cy="6426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ortanta etichetarii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2767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4365720"/>
            <a:ext cx="2133360" cy="642600"/>
          </a:xfrm>
          <a:prstGeom prst="rect">
            <a:avLst/>
          </a:prstGeom>
          <a:solidFill>
            <a:srgbClr val="0585bf"/>
          </a:soli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f4"/>
                </a:solidFill>
                <a:latin typeface="Arial"/>
              </a:rPr>
              <a:t>Conditii impuse de lege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1268280"/>
            <a:ext cx="2665440" cy="6858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6040" indent="-39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f4"/>
                </a:solidFill>
                <a:latin typeface="Arial"/>
              </a:rPr>
              <a:t>Elementele etichetei produsului alimentar 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6094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48360" y="836640"/>
            <a:ext cx="2590560" cy="6426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f4"/>
                </a:solidFill>
                <a:latin typeface="Arial"/>
              </a:rPr>
              <a:t>Simboluri privind protectia mediului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3048120"/>
            <a:ext cx="2590920" cy="64260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f4"/>
                </a:solidFill>
                <a:latin typeface="Arial"/>
              </a:rPr>
              <a:t>Metode de gestionare a deseurilor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5334120"/>
            <a:ext cx="2590920" cy="368280"/>
          </a:xfrm>
          <a:prstGeom prst="rect">
            <a:avLst/>
          </a:prstGeom>
          <a:solidFill>
            <a:srgbClr val="f4dd52"/>
          </a:soli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puneri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286000" y="1341360"/>
            <a:ext cx="4572000" cy="4297320"/>
            <a:chOff x="2286000" y="1341360"/>
            <a:chExt cx="4572000" cy="4297320"/>
          </a:xfrm>
        </p:grpSpPr>
        <p:sp>
          <p:nvSpPr>
            <p:cNvPr id="214" name=""/>
            <p:cNvSpPr/>
            <p:nvPr/>
          </p:nvSpPr>
          <p:spPr>
            <a:xfrm>
              <a:off x="2771640" y="1916280"/>
              <a:ext cx="1295640" cy="1368360"/>
            </a:xfrm>
            <a:prstGeom prst="line">
              <a:avLst/>
            </a:prstGeom>
            <a:ln w="63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286000" y="3284280"/>
              <a:ext cx="1781280" cy="1135080"/>
            </a:xfrm>
            <a:prstGeom prst="line">
              <a:avLst/>
            </a:prstGeom>
            <a:ln w="63360">
              <a:solidFill>
                <a:srgbClr val="0585b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4191120" y="3352320"/>
              <a:ext cx="2286000" cy="2210040"/>
            </a:xfrm>
            <a:prstGeom prst="line">
              <a:avLst/>
            </a:prstGeom>
            <a:ln w="63360">
              <a:solidFill>
                <a:srgbClr val="f4dd5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4191120" y="3276360"/>
              <a:ext cx="2666880" cy="22860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114800" y="1341360"/>
              <a:ext cx="1177920" cy="193536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114800" y="3352680"/>
              <a:ext cx="0" cy="2286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27 -0.00046 C -0.2783 -0.02269 -0.54097 -0.04468 -0.63715 -0.14861 C -0.73333 -0.25231 -0.66371 -0.53958 -0.59288 -0.62222 C -0.52205 -0.70463 -0.32031 -0.62824 -0.2118 -0.64236 C -0.10364 -0.65671 0.04306 -0.75556 0.05643 -0.70741 C 0.0698 -0.65949 -0.06649 -0.41991 -0.13142 -0.35301 C -0.19635 -0.28588 -0.29948 -0.31319 -0.33316 -0.30556 E">
                                      <p:cBhvr>
                                        <p:cTn id="12" dur="5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5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8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9000"/>
                            </p:stCondLst>
                            <p:childTnLst>
                              <p:par>
                                <p:cTn id="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9000"/>
                            </p:stCondLst>
                            <p:childTnLst>
                              <p:par>
                                <p:cTn id="72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2:40:38Z</dcterms:created>
  <dc:creator>kta</dc:creator>
  <dc:description/>
  <dc:language>en-US</dc:language>
  <cp:lastModifiedBy>Claudiu</cp:lastModifiedBy>
  <dcterms:modified xsi:type="dcterms:W3CDTF">2008-04-02T18:57:54Z</dcterms:modified>
  <cp:revision>57</cp:revision>
  <dc:subject/>
  <dc:title>Template</dc:title>
</cp:coreProperties>
</file>